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165-947B-4BFD-B844-47C317D6618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C317-8964-4781-A0F6-307CF1FF57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5E1-4580-4A99-B809-1C409C8C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636-71BB-4929-A330-420D2A74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9EA19-BD83-43A3-BA60-CEF00D11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FE587-1426-411F-9127-DD6359B3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DC5D8-1930-4664-946F-FB8E0EB7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31DDE-BB26-489E-A6B9-3FCE5E43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0A679-22FA-4615-9404-8349986B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995D1-8B32-427B-A6AB-E80D5D8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7DDC3-7ACF-4179-8C5C-E053624E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84FD2-E9DC-457E-8AF6-45DF2598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2B716-B6F0-482E-B286-1EA94F5B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8FC72-F7E7-46A0-A69C-768B6889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080-5FF9-408A-8517-7FDB3BA1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D6DD9-21CF-4E84-B6C1-351B804F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3C3CD-1D23-46D4-B353-09940E53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33F26-F266-4009-B069-39ADAF13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F8B83-A345-47CF-BA08-391923B3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79F93-E943-4A9B-8E8F-205C8923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312B6-3133-4994-87F5-11186C92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31E2B-200B-40FD-876B-A8B4CC8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B7D44-455C-44A6-9743-50A12BCC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F2050-4B0B-417E-818E-C10D1CF5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A85A3-DACB-468D-A850-8B1C6156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2B4-8B82-4372-A527-7E012A22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6299C-A80E-488C-828F-6E5F89A4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9A6DC-B8AB-4275-A41E-22AA064C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914D7-2838-412C-92E8-54D11D40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B73D2-D3D9-468D-BDC9-1223D4A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F3CAA-812B-4328-A448-CF8E8581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F9BE3-2C82-40B7-BA5A-4DE3A713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A6B89-219B-4D23-9DFA-E7716A70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D847B-C2C1-448B-ACBB-2D808C2F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BB457-71AA-4D9E-A2E8-743793C8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23AB4-23FA-4D53-9655-39BB7F09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A0E0-A8F4-42D3-A2B1-FF2E0C95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ABA50-B3C5-429A-8C3A-2085F3FC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40CDF-2700-4FD1-A45C-82089FAE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B905B-B079-40D3-9E79-81D3A20D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E468D-4D4C-4DA4-8AFB-5FE8D60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D7F55-3177-46CC-88CB-A5D48538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2D8F1-1462-4CC1-A6A6-95B8E43E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64DE9-935E-4627-AB53-19DECB44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A3C96-6E4E-4EF8-AD6A-ECB3B601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0EA70-44EB-42C0-A3D8-4A8E6062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9B0DB-AA52-4051-9DB4-C7587D04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499B-D4B1-4C88-8D9B-500403EA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99199-D565-4C83-A360-5D9E67FC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85090-965E-436F-AA8D-D06209F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D5CC0-28A0-444E-8974-AB70662F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75EA1-2098-4C2D-9BFA-241958FD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301C0-B930-4D8B-9391-7783C346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F85B0-B17E-4D38-B3DE-39589F72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82A68-A377-4154-92F0-BEF89022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5DBEB-0248-42BD-A217-351BA93E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440FA-EFE4-4718-960E-337F00F6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C8502-4FFD-46E9-BB79-C489876B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CC34-1BA5-4150-ABD6-BD7F4399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62847-4599-450F-B526-C32E447B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677FA-0B73-4539-91E8-6382306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B08D0-86D7-4519-9F75-1A5E322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BC614-8955-4C92-87CB-24DD3390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02C1A-1A9A-4B52-B98F-D282E7EC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1B343-01F4-45C2-B857-2E7AE575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32B78-960E-4520-9844-D5517C68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B3595-2F76-477A-BA6A-2B77B6E4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BC955-B394-4C63-8A4A-2F64F097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F512A-B8DA-4653-A0CA-B9A10C3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3E61-06B1-4CB3-8F80-D8F65938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B9474-63D3-46C3-9721-F599874A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B4068-00D2-4FEE-A8C9-418AD05E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67802-BF85-45A4-A79A-52757A96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E41A4-0390-4C3A-8908-D6C8D77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D02A4-E514-4C9C-B0A4-D39E35A9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360BB-54FC-4197-A534-B7C123A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E0569-9789-4198-83EB-D85E3EF5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CDEA2-D6B0-4530-9C02-3BF9A0E6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D313B-6EAF-4F63-8554-1D1AE3FE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65A7C-7C06-4D70-8B2F-A3EA0656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BF4D-7EB8-4A6E-B075-A5788478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38CAC-44FE-42DC-A44D-04AB783F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C2BB2-E3B0-490C-8E44-8F90B56D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31116-6D4B-48ED-BA4B-DD298825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50B37-2E14-4583-9ADA-E580B75D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181E5-C19D-4A66-8235-4F03C5CE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A4900-12DA-4464-818B-8BC54A8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6567D-DDCE-4C39-A645-121A987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32607-9A3D-4849-BD8A-ED396FBB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B7B32-CEC5-4A32-9617-3662985F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7229E-739B-4F57-9F82-ABBEA638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26F5-F570-43D0-9E16-B2AA70E2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4F90B-C71D-4362-9BD7-BBC3E4B2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EDAC9-4D4B-460C-A271-C7D4DC0E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BB881-0B0E-42D7-A5AE-4C96818F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CFBC8-5D1B-4C74-A079-CC3D303F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4949E-658A-4149-A8D5-98071FA3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8DE1B-5007-40D7-80FF-A86A0BDC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D8C5F-99BF-460D-99C1-FDBE9EAF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A6EC6-61E9-4E88-B14F-39DCEE4D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69804-2251-467B-A00C-367FF5AB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49C9A-899A-455B-B299-448B516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9BFD-8FEE-4DDC-B9C0-16AEA416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1A9DE-91D0-4995-8A4E-AFB0F443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3E109-0FBA-44EC-A686-660907AB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1BE9E-6EA4-497A-BE08-76C9B8ED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85B3F-F458-43C5-BE44-1D0C0EBA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F6624-7A44-458A-A2C5-76B59F4C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2BCB0-C663-4894-893B-611A901A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E4231-C762-4D33-A671-48D75882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4B916-2EEA-4496-A0D6-8E6B3D31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16833-80EF-4395-8F85-54FB610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37729-0F59-48BB-9D97-669473B3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4A4-D4FD-4D02-A00B-507DD768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B00C-8B16-42A0-AAAD-E327D88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48560-1CC6-485A-8794-5817CC7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E729C-60F0-41A4-9609-2B100641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522E4-3EF1-41AC-9D7A-CAEE040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021AF-BA33-4A37-AFB0-A605BCB6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A814A-DF0D-4715-84C8-8F7EF2F6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36475-407F-4957-AD2E-C9E7200B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38396-3135-4464-8441-8CD9D6B9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BC50D-68BB-45CB-A3AA-51D0BD82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CCC5E-2624-4B50-878E-7FC96AF9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D9602-4365-48F5-9A73-AAF2F97A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1258-6E47-4888-9D21-3BE799C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3DEB00-B178-457B-BD20-5FAEEF4F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F0FC1-71EE-4575-BAA2-BF818DB9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E7C50-28AB-40CC-8F40-0139B77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1F2A2E-8004-484A-884E-7F0109CA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692159-FE71-40A1-B439-D167F140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515A5-966E-4C74-AF18-0E5EFC4A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A950B-DBA6-4FA5-AA9F-93B6AAF5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D25DC-D69C-440E-92F9-6975A73B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4BE96-7876-45B0-91D6-6B9D7A6F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F9317-2263-49FB-8E3C-553CF9E2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D4D2-7B40-4945-A1F5-F8CF3C96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1274B5-3970-4E14-A149-CCF0F3FF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A4C3C-6B98-434F-8F61-8E8D8E86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68DFD-F84C-4C48-8EE7-E513FCFC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F9692-CB02-4F96-9302-AFAB068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B9C17-BF0B-43E8-B7ED-4AE53814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813637-0B5B-4D08-A474-D617BDE3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00F81-DE5C-4F13-A043-53383198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ED271-9093-4A46-8E67-4212CB00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6FA98-A834-4F42-9F25-EE1AFFAB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4B3A-F64E-4203-9D3A-A4ED50A4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91E5-808C-4478-A507-8033AC07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9A2B-E782-4A43-B4EC-E29C86FE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1B55F-3BA6-4752-B6C5-6CBB0F2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02DC-8197-4382-B558-C6ABDAD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3CC0D-5F4E-4659-B4B3-F62F7BE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A0A2-6FD8-4A6E-AEF6-840254CB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735-2D91-4506-BD1A-F0B08F30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219E-B5FD-4C7C-9551-B14908BD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57F9-BAA1-4551-811C-43EFD41C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32A1-04B1-40CF-B1BE-68866B5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69B8-68C2-4A73-910F-D78D65F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4D24-AE95-4AC2-99FA-21D7FC50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BCC8-EA12-4530-91D2-E339B4DC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1901-6A63-4FF4-863B-8D76DDA8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AEBE-7355-4F7C-A494-BCD8D09A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2B8F5-9001-4A16-A91C-754346EE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1865-E292-44B2-B3ED-413C834A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60B-1B20-45B4-8CB0-31A45023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DA75-BCF1-434B-9679-7AD3AD3F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709D-8CD0-4090-A662-C6B300CE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2C26F-D07B-4D0B-8C6D-2DF43A26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E6C03-8BDE-49F0-ADB5-3A66B798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7E54-B1C4-4CA5-9A45-2A8DBDB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B500B-34B2-4B51-B763-29C366A7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59742-61F5-4417-8F20-9863F97F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9FC7-30A0-417B-AF09-A794F99D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07A2-E9E8-4987-B46C-64B948D5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53B48-EBAE-4D1C-8579-A5ED0E4E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01C-BB16-4803-9748-25C32ECB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96E73-114E-4AB5-BE73-02FC2E23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126DD-F6F1-4FCD-B772-F7ED105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A8B07-9C4D-45A3-9CE7-424246FB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65BA-F19D-43CD-BC6A-66DB8797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2510F-7AB0-49BD-94BD-6B93FE6F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CC95D-3299-4EC8-9A4C-EF4D6849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3849-86CD-4310-9866-61DE5269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C5D6E-DC57-4B48-A498-5B176EB4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AC274-DCD2-4D8A-8E83-E25D61F2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34D61-89C4-4DA4-BD24-BF811D20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AD7-0FAC-4FCA-86B3-DE279635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8D7C-83DB-4281-8304-99789F9A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558F4-A922-45A3-8D1E-08049830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9B872-D1CB-4BED-9E3D-BFF96EE2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F860-5034-4706-8C26-D08FEEC2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31D8-8EE5-4452-A9F1-4E695B42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41416-1485-4A64-BC30-BA22F7A1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409C-3940-4EEC-8D21-8AD6228C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A507A-B9A5-4F69-BB0A-62284D73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678FD-0308-4199-9862-51E7045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1D9E8-77E7-4400-8471-7E387065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6CD-3C7F-4D28-A4CC-2CF4413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9EEDF-BBD6-48F6-AAFA-A66A44C1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63144-DB1B-4E3E-B052-FEAA09BD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2B110-A321-472D-AF7A-28B90222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C135-1A87-4D71-81BF-C203F7F5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141A1-36FE-45DF-A812-83CB0882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DC219-1185-4789-B000-6D9A13FE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801F9-EE36-4093-AC91-24FBD5CE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C4AF0-EEFA-4104-A4F6-585B47B6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A2A0-DC40-49A7-9320-7B0CF52B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C6CF5-1EA3-4C8D-9F64-F756624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BDD-69A3-403A-9ABD-D638013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2A78C-6DE2-4FBC-B634-42AC167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A186F-E165-460A-8E31-E07BB1B4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F1315-4F7D-42BD-94AD-8C083CE4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43C02-4891-4463-9317-CD54C964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7D8D-FF9F-4BEC-B6E0-2F3BD323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F6E5B-98C2-4686-9614-F330C7A1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EB2A-87D2-4CF4-BE74-0791A49B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3C10-0396-4B61-ABBD-EE18F29A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385FC-6B88-42BC-BCEA-B0F688E7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F66E5-EB43-4C96-A7CE-393642E9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356-F482-4D8E-919B-90E619A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5901-2DA1-4934-8C58-BB1F2D86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E6B9D-1DD4-409D-A178-238ACB65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4CF10-12DF-4A16-984E-5B37411B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FAE78-8279-4EF9-94D9-4BD9E62B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22359-EB8C-4693-8B28-FC971573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81C6D-78D1-4D3E-807E-2EFE66BC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1621D-BA8C-41AD-AE82-A2044F02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73B5E-56C4-4C27-97FF-F72F7B65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84A79-35F9-4165-9DCF-07979110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79F78-1934-4D6D-BC9C-C95876C3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F74-5DF3-4C33-BEA7-3F972AEAE85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4CCC-3897-43DD-822A-338AF570B95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4494-FECA-4CD9-920A-FEF2484CFAB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4081-DF63-4D08-9BA3-68E0478D0B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4759-029E-4A86-9BE2-439B29F8323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CA68-9AF9-4E59-86D0-FB72D26E01E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1083-BCAD-43E4-87F1-5B91BFB40A8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756E-8D50-4391-82C7-FCB5BC3C41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CC18-EBCC-41E3-B33A-DC22624CC41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0448-48AF-4F6C-BC8B-80A015FA22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9E4-086C-4456-9066-2281DA8CDBD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9C9-4369-451A-940B-903AADBDD26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63E4-A9E8-45FF-8062-6469A62E751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EE3A-B7EB-4031-8F68-D090FBD016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D927-6498-46CC-A5A7-DA0105590E2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052D-D0BA-43FC-A2C8-92672D0038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81F1-0C50-4E59-82D2-94797F48A62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9F10-B065-4E41-BF62-EA7B904B7D8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36B6-5383-4327-A75E-070AE5190C5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DF4F-478F-4537-A55F-F141186BC90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573B-7B62-40B3-9AD1-2DF01869B87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A20D-DDD7-4503-9D9D-76C83D2A663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699-6DC0-4FB5-9A56-5CBE9B6CF75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0FD7-3783-4864-BFD6-788BB4E486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5E1D-B602-4DC0-8818-0A2F568F2D4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7688-1F11-41F6-B2C0-E5DDB84C80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61A1-A9CE-4A4C-80F6-290D51609BB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802B-5BBA-4DEE-A12B-D01EF74AD02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350D-27F6-4C81-800D-4265C2EC22F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3E80-09C2-41B8-9C8B-610CD5B922F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0306-FEA5-4383-8D1D-5B0CDBBFBD9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8D1F-93CC-4825-9FB2-82497C232F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4AA0-93AB-41C1-A948-91091251F07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DBAA-4EE0-4868-9E2F-8CFD0DF8CD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1273-612D-4669-9C06-830E042F4DE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E6BA-B8E0-4ED6-A6F6-1BD8F9ACB66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C998-9440-4D24-8FF3-E81699D7C86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6DDF-7D33-4EA2-8302-67029A174D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67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68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1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72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Imagen 2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283280" cy="6097680"/>
          </a:xfrm>
          <a:prstGeom prst="rect">
            <a:avLst/>
          </a:prstGeom>
          <a:ln w="0">
            <a:noFill/>
          </a:ln>
        </p:spPr>
      </p:pic>
      <p:sp>
        <p:nvSpPr>
          <p:cNvPr id="901" name="Cuadro de texto 3"/>
          <p:cNvSpPr/>
          <p:nvPr/>
        </p:nvSpPr>
        <p:spPr>
          <a:xfrm>
            <a:off x="3995640" y="1916280"/>
            <a:ext cx="1584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Cuadro de texto 4"/>
          <p:cNvSpPr/>
          <p:nvPr/>
        </p:nvSpPr>
        <p:spPr>
          <a:xfrm>
            <a:off x="2050920" y="1341360"/>
            <a:ext cx="12956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5"/>
          <p:cNvSpPr/>
          <p:nvPr/>
        </p:nvSpPr>
        <p:spPr>
          <a:xfrm>
            <a:off x="2340000" y="2565360"/>
            <a:ext cx="861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Cuadro de texto 6"/>
          <p:cNvSpPr/>
          <p:nvPr/>
        </p:nvSpPr>
        <p:spPr>
          <a:xfrm>
            <a:off x="1692360" y="184464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7"/>
          <p:cNvSpPr/>
          <p:nvPr/>
        </p:nvSpPr>
        <p:spPr>
          <a:xfrm>
            <a:off x="4788000" y="2205000"/>
            <a:ext cx="1800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8"/>
          <p:cNvSpPr/>
          <p:nvPr/>
        </p:nvSpPr>
        <p:spPr>
          <a:xfrm>
            <a:off x="3492360" y="3789360"/>
            <a:ext cx="2592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9"/>
          <p:cNvSpPr/>
          <p:nvPr/>
        </p:nvSpPr>
        <p:spPr>
          <a:xfrm>
            <a:off x="3274920" y="4149720"/>
            <a:ext cx="1584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Cuadro de texto 10"/>
          <p:cNvSpPr/>
          <p:nvPr/>
        </p:nvSpPr>
        <p:spPr>
          <a:xfrm>
            <a:off x="3708360" y="630252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0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1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12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15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7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18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30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B5F-D472-43B7-AE70-22687A76118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3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611280" y="444600"/>
            <a:ext cx="799308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2C6D-7F22-450D-9EF4-7A3FD6FD91C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468360" y="341280"/>
            <a:ext cx="820728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45A0-FBC1-4BCB-B7C3-2636EEAE819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sp>
        <p:nvSpPr>
          <p:cNvPr id="938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4EAC-F67F-41EF-A8AC-E9CCD3AB462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1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42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7057-FC62-4077-96F6-816D90BC583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468360" y="331920"/>
            <a:ext cx="8136000" cy="6140160"/>
          </a:xfrm>
          <a:prstGeom prst="rect">
            <a:avLst/>
          </a:prstGeom>
          <a:ln w="0">
            <a:noFill/>
          </a:ln>
        </p:spPr>
      </p:pic>
      <p:sp>
        <p:nvSpPr>
          <p:cNvPr id="946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8571-ED8A-4247-931D-51C33051B8E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2124000" y="187200"/>
            <a:ext cx="504036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A9CF-7B36-4178-8BFB-0D7AC95E42E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1"/>
          <a:stretch/>
        </p:blipFill>
        <p:spPr>
          <a:xfrm>
            <a:off x="22320" y="260280"/>
            <a:ext cx="5508360" cy="6513480"/>
          </a:xfrm>
          <a:prstGeom prst="rect">
            <a:avLst/>
          </a:prstGeom>
          <a:ln w="0">
            <a:noFill/>
          </a:ln>
        </p:spPr>
      </p:pic>
      <p:sp>
        <p:nvSpPr>
          <p:cNvPr id="953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a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57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60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3" name="4 Conector recto de flecha"/>
          <p:cNvCxnSpPr>
            <a:stCxn id="958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64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0F61-45A8-4803-8364-BA4220441F3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2" descr=""/>
          <p:cNvPicPr/>
          <p:nvPr/>
        </p:nvPicPr>
        <p:blipFill>
          <a:blip r:embed="rId1"/>
          <a:stretch/>
        </p:blipFill>
        <p:spPr>
          <a:xfrm>
            <a:off x="708120" y="458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968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7FFE-136F-471F-8549-EFC274CC5A0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5114880" cy="6375240"/>
          </a:xfrm>
          <a:prstGeom prst="rect">
            <a:avLst/>
          </a:prstGeom>
          <a:ln w="0">
            <a:noFill/>
          </a:ln>
        </p:spPr>
      </p:pic>
      <p:sp>
        <p:nvSpPr>
          <p:cNvPr id="972" name="2 CuadroTexto"/>
          <p:cNvSpPr/>
          <p:nvPr/>
        </p:nvSpPr>
        <p:spPr>
          <a:xfrm>
            <a:off x="5275440" y="438120"/>
            <a:ext cx="3617640" cy="67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DE9D-E687-4A3E-881C-3C39BDB931B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sa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524F-B4D4-4762-B4C6-268D7DCC514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1CB3-6C59-4AFC-83D7-8EA44111C3F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12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B5E2-B4C3-4AE2-A1C2-BA32C06EFC9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18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0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21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29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31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3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0405-EAA1-40B9-8A77-5FB00835C56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5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42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ángulo 8"/>
          <p:cNvSpPr/>
          <p:nvPr/>
        </p:nvSpPr>
        <p:spPr>
          <a:xfrm>
            <a:off x="990720" y="21337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ángulo 9"/>
          <p:cNvSpPr/>
          <p:nvPr/>
        </p:nvSpPr>
        <p:spPr>
          <a:xfrm>
            <a:off x="4191120" y="21337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3" name="Imagen 11" descr=""/>
          <p:cNvPicPr/>
          <p:nvPr/>
        </p:nvPicPr>
        <p:blipFill>
          <a:blip r:embed="rId1"/>
          <a:stretch/>
        </p:blipFill>
        <p:spPr>
          <a:xfrm>
            <a:off x="3505320" y="2724120"/>
            <a:ext cx="5346720" cy="3737160"/>
          </a:xfrm>
          <a:prstGeom prst="rect">
            <a:avLst/>
          </a:prstGeom>
          <a:ln w="0">
            <a:noFill/>
          </a:ln>
        </p:spPr>
      </p:pic>
      <p:sp>
        <p:nvSpPr>
          <p:cNvPr id="854" name="Rectángulo 12"/>
          <p:cNvSpPr/>
          <p:nvPr/>
        </p:nvSpPr>
        <p:spPr>
          <a:xfrm>
            <a:off x="3505320" y="3809880"/>
            <a:ext cx="221904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Línea 15"/>
          <p:cNvSpPr/>
          <p:nvPr/>
        </p:nvSpPr>
        <p:spPr>
          <a:xfrm flipH="1" flipV="1">
            <a:off x="2742840" y="2590920"/>
            <a:ext cx="76212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ángulo 16"/>
          <p:cNvSpPr/>
          <p:nvPr/>
        </p:nvSpPr>
        <p:spPr>
          <a:xfrm>
            <a:off x="230040" y="221148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ínea 17"/>
          <p:cNvSpPr/>
          <p:nvPr/>
        </p:nvSpPr>
        <p:spPr>
          <a:xfrm flipH="1">
            <a:off x="761760" y="2438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Preferred Customer</cp:lastModifiedBy>
  <cp:lastPrinted>2012-05-07T21:30:02Z</cp:lastPrinted>
  <dcterms:modified xsi:type="dcterms:W3CDTF">2012-05-08T18:58:26Z</dcterms:modified>
  <cp:revision>21</cp:revision>
  <dc:subject/>
  <dc:title>Presentación de PowerPoint</dc:title>
</cp:coreProperties>
</file>